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5A0-7FAD-4F2D-9788-644A7A35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723-1B47-49A5-BE87-F607316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16A-C4AF-402C-B5D3-EB1A0EE8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529-AE2A-4DFA-9EDB-A655229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D7D-BD59-42AF-A928-70D9DFA9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D5F-1B41-46C0-B4E4-694A2974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0B9-46B5-4962-BBF9-2AB3FA9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A3E-FFCA-4A23-9479-8682497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880-509E-4B53-BE26-23BA0D90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8AB-4B52-4E84-B05B-6F51A05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791-239D-4E06-B954-812FD8B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77-DE4A-4F42-951D-9C2BC30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F1B-F388-4E0B-9871-05A9F8A1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Engravers MT"/>
              </a:rPr>
              <a:t>Conquistadors and pre-Columbian civi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4038480"/>
            <a:ext cx="6858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: Brent and Brend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17384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-304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99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capital was Tenochtitlan and was built in middle of a lak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were human sacrific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were polytheistic (believe in many gods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2096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1-Aztec_Empire_Map.png"/>
          <p:cNvPicPr/>
          <p:nvPr/>
        </p:nvPicPr>
        <p:blipFill>
          <a:blip r:embed="rId2"/>
          <a:stretch/>
        </p:blipFill>
        <p:spPr>
          <a:xfrm>
            <a:off x="4800600" y="3382920"/>
            <a:ext cx="350532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ainly around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older groups of Central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as were also polytheist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743200" cy="21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[Map of the Maya World]"/>
          <p:cNvPicPr/>
          <p:nvPr/>
        </p:nvPicPr>
        <p:blipFill>
          <a:blip r:embed="rId3"/>
          <a:stretch/>
        </p:blipFill>
        <p:spPr>
          <a:xfrm>
            <a:off x="4114800" y="3505320"/>
            <a:ext cx="4753080" cy="31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6019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rtford-hwp.com/archives/41/21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7" dur="123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8" dur="123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0" dur="123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" dur="123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7" dur="123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9" dur="123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5" dur="123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6" dur="123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8" dur="123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were the biggest group with 20mil.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capital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ificed lamas sometimes to please the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easily taken over Because of a civil war. (Fighting Between two groups in the same country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86200" cy="169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914560" cy="332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943600"/>
            <a:ext cx="61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eru-explorer.com/PERU-EXPLORER.2002/peru_travel_center/inca_empi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6600cc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a Spanish conquistador. (someone who conqu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over the Aztec empire in 15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ecs thought Cortez was a god called Quetzalcoatl. ( A god that the Aztecs believed in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ptured Aztec king Montezuma and killed him in bat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Spanish explorer and conquis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ook over the Inca empire in 15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sily took over Incas because they were weakened by a civil war.( fighting between two or more groups in the same countr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ed Inca king Athualpa and demanded gold and silver for kings return but killed him any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0033cc"/>
            </a:gs>
            <a:gs pos="100000">
              <a:srgbClr val="99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Spanish conquistadors change Central and South America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dern time Most of Central and South America speaks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Aztec, Inca, and Maya cultures and traditions have been forgotten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dern time many people in central and South America are Christian and no longer believe there nativ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09:37Z</dcterms:created>
  <dc:creator>jklib</dc:creator>
  <dc:description/>
  <dc:language>en-US</dc:language>
  <cp:lastModifiedBy>jklib</cp:lastModifiedBy>
  <dcterms:modified xsi:type="dcterms:W3CDTF">2011-11-28T14:17:46Z</dcterms:modified>
  <cp:revision>7</cp:revision>
  <dc:subject/>
  <dc:title>Conquistadors and pre-Columbian civilization  </dc:title>
</cp:coreProperties>
</file>